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C3FD-0886-4F38-B0BF-1EEAD311A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9759-8A00-4D48-880D-B6CFD64EC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7E01-55B8-4F18-8DEC-A73498D69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0163-BA83-4BBF-8C51-C7BFAEA4B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A85A-F1E4-4490-9C66-4560E344E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3273-4091-41C7-8257-8C2D91DA6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E869-B38B-4F4C-A991-8A73C12C3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A980-6C82-4867-88A9-5F8E0C2BC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CC74-BC02-4F29-9D16-561A6ABD0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B9FF-C9B4-4FEA-9F27-46AA2763D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B495-ED7E-4FD1-BE5A-4DD917ADD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5F361-7EF0-422F-AF1A-145CBC9EA7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51F6F-D6A9-4B9B-BE70-F69439A7D7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B04C8-179B-4ED4-824C-B6223831D4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4BA0C-DBBE-43A6-8D4B-CAEC480BB8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FA25FF-101F-4428-BAB3-7613ED2F1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A14A03-0851-4113-8B59-55E15D17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B62ED-5BD2-4B20-AD11-CAA06189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11DA6-F154-4985-926C-4C69A7F8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05496-62DC-4367-854B-3D7B8B57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53C9F-2598-4C23-B848-624ECCFD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63767-5E96-44E0-85E0-30619E24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167AE-C007-4282-8311-DF0524353A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2457C-5B51-43C6-BDCA-F252880B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1AE980-6BFC-44F0-8985-6C16960D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0EA3C-3F57-4558-A37F-42C364AD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B1E3D-0B90-4BB7-9D2D-44DA4B183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A9FDB-4F40-400C-BBAA-2EBDD03C5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077E7-A0E8-4FF6-A5DC-B8C1854F29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B2FD2-DA15-4C46-A8B6-7ABDA27A46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70A5C-20EA-494C-B711-06714C1A4D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5AC40-9F23-4347-9869-FE433FEDCE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ABAE9-9FF8-490D-B2C8-74B074424A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A1EA3-FA92-4202-A59F-6AD7BD6C51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33798-D4F6-4E1D-AE7F-44F4B16E0F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9114-910B-4846-BDA1-1DE58BAD25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88F2-E06B-42D9-9877-CCC9B564D8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7C4C-A535-4303-A3DB-1B659429A0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Étude de cas: Impact de l’absence de programme de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cénario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laboratoire de référence a demandé urgemment des réactifs, principalement liés à des maladies diarrhéiques. Les réactifs demandés ont été envoyé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ésultats d’une évaluation externe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ndant la mission de suivi du programme, la “pièce de stockage” a été visitée. Face à l’énorme stock observé, un inventaire a été conduit pendant la miss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2370-8137-48DC-85DA-99FB0AE3B3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Étude de cas: Impact de l’absence de programme de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Un inventaire n’avait pas été fait depuis des anné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sonne ne savait ce qui était dispon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s réactifs demandés en urgence étaient présents, la moitié d’entre eux étaient toujours utilisables, l’autre moitié était périmé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ésultat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ugmentation des coûts des réactifs, le temps passé par le laboratoire pour contacter des donneurs, temps passé par les donneurs pour commander les réactif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te d’argent et de temps, 3 semaines de délai/retard, pendant ce temps analyses stoppées dans le p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7BE7-E68E-4A96-84DA-D07950D995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4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25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7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9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0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1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2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3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4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149D-7FA8-4067-90ED-87FC926061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FC2D-6C98-40E4-9912-84180EC105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Exemple d’un programme spécialisé :Soft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dolmazonv</cp:lastModifiedBy>
  <dcterms:modified xsi:type="dcterms:W3CDTF">2010-04-08T14:12:46Z</dcterms:modified>
  <cp:revision>13</cp:revision>
  <dc:subject/>
  <dc:title>Discussion: The Problem</dc:title>
</cp:coreProperties>
</file>